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065-A3E1-42C8-9E99-BCF694E9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694-9BCE-411E-931A-F444656E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985-64AC-42B9-A0AB-C3ACE5AA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C76-A4BE-4E3B-A262-F815F900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5291-CAA0-4606-86B4-0BBD0FA3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C6A6-DEB5-4F7A-A812-BE72D5CB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150F-06FF-4B52-BDB0-E4E642CB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D770-027F-493E-BAFB-8F0DE5FF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1D4A-D5D2-4A95-B462-AB68D9B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A6C7-474D-4F37-8FD5-E7E58F3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1A4B-DF15-4E35-B093-8665E81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188-14AA-48B6-A34F-5A36B68B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D816-E17F-4820-BEE4-60D07BD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0D76-4E55-4D50-A3EC-8FB9B443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0115-E558-4CF3-8F60-BACABE56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4F34-97B8-41C8-964D-A89F96AD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E894-DC2B-46B6-8BFA-CE11C3B3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06B-3045-49C9-9324-3B0372C9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BEE-5A5D-44CF-81B7-8D531501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D4E-BE75-4C56-B64F-1E9739D5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D3C-483A-4E1C-9250-14531209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1F6-3C85-4918-B020-71683308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A96-207E-4D04-9CC9-05B2CCDC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0EA-5C70-44B0-96E6-656D603B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2C55-BBFE-49DF-AB95-7206422A1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3609-A5AA-4516-9E6B-D2E9A2741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 Quiet on the Western Fr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rich Maria Remar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rld War I Ma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Triplealliance"/>
          <p:cNvPicPr/>
          <p:nvPr/>
        </p:nvPicPr>
        <p:blipFill>
          <a:blip r:embed="rId1"/>
          <a:stretch/>
        </p:blipFill>
        <p:spPr>
          <a:xfrm>
            <a:off x="1523880" y="1528920"/>
            <a:ext cx="68184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ShockwaveFlash1"/>
          <p:cNvGraphicFramePr/>
          <p:nvPr/>
        </p:nvGraphicFramePr>
        <p:xfrm>
          <a:off x="1066680" y="1828800"/>
          <a:ext cx="6248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248520" cy="441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haracters in the no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ul Baumer – young German soldier; protagon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islaus Katczinsky – Kat; Paul’s best fri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bert Kropp – intelligent; friend of Pa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ler – hardheaded, prac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jaden – wiry; hates Himmelst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ntorek – pompous schoolmaster of Paul’s before th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Charact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poral Himmelstoss – petty, power hungry; most hate h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nz Kemmerich – shows the brutality of war and f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seph Behm – did not want to en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ing – constantly homesi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ard Duval – French sol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uiding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risis does the protagonist 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ust the protagonist face his demons al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faith/Catholicism show up within the no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book relevant today? Is it applicable to today’s 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riting conventions does the author use to convey the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book relate to the the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 Sched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tember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-5 Quiz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tember 2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6-8 Quiz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-12 Test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28:25Z</dcterms:created>
  <dc:creator>jvanengen</dc:creator>
  <dc:description/>
  <dc:language>en-US</dc:language>
  <cp:lastModifiedBy>Administrator</cp:lastModifiedBy>
  <dcterms:modified xsi:type="dcterms:W3CDTF">2011-08-21T17:49:56Z</dcterms:modified>
  <cp:revision>42</cp:revision>
  <dc:subject/>
  <dc:title>All Quiet on the Western Front</dc:title>
</cp:coreProperties>
</file>